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7E6FF-33A8-4971-9073-546EB9B44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4AA27-E439-4E8D-AA82-544C3260B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5CC8E-E94C-4345-A997-89B7105A3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49778-43CC-46AD-A478-BC6681E0B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C108A-8E6A-404D-8CE4-1DBDF6878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416D9-1962-496A-9AC5-95B1A419E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6169F-C81D-4F9F-8D4A-FEDFD5230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38BE0-7615-402B-A3BA-F65C07804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34D6E-79F9-4CA9-816E-D81EF221D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57556-04D9-4CAA-95EF-5653E7FA7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43242-E381-49AF-B1FD-529349157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37B8F-3FEB-4745-ACFC-83E9D8780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02842-C326-4346-B520-43EB4FF22B4B}" type="slidenum">
              <a:rPr b="0" lang="en-US" sz="1200" spc="-1" strike="noStrike">
                <a:solidFill>
                  <a:srgbClr val="898989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71600" y="182880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Broadway"/>
              </a:rPr>
              <a:t>Milky Way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7432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oadway"/>
              </a:rPr>
              <a:t>B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oadway"/>
              </a:rPr>
              <a:t>Ryle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oadway"/>
              </a:rPr>
              <a:t>Feldt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1" descr="http://ircamera.as.arizona.edu/NatSci102/NatSci102/images/milkyway.jpg"/>
          <p:cNvPicPr/>
          <p:nvPr/>
        </p:nvPicPr>
        <p:blipFill>
          <a:blip r:embed="rId2"/>
          <a:stretch/>
        </p:blipFill>
        <p:spPr>
          <a:xfrm>
            <a:off x="4572000" y="3581280"/>
            <a:ext cx="3308400" cy="2560680"/>
          </a:xfrm>
          <a:prstGeom prst="rect">
            <a:avLst/>
          </a:prstGeom>
          <a:ln w="0">
            <a:noFill/>
          </a:ln>
        </p:spPr>
      </p:pic>
      <p:sp>
        <p:nvSpPr>
          <p:cNvPr id="44" name="Text Box 8"/>
          <p:cNvSpPr/>
          <p:nvPr/>
        </p:nvSpPr>
        <p:spPr>
          <a:xfrm>
            <a:off x="1531440" y="1484280"/>
            <a:ext cx="457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asures 100,000 light years across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45" name="Text Box 11" descr=""/>
          <p:cNvPicPr/>
          <p:nvPr/>
        </p:nvPicPr>
        <p:blipFill>
          <a:blip r:embed="rId3"/>
          <a:stretch/>
        </p:blipFill>
        <p:spPr>
          <a:xfrm>
            <a:off x="1481040" y="2023920"/>
            <a:ext cx="4187880" cy="963720"/>
          </a:xfrm>
          <a:prstGeom prst="rect">
            <a:avLst/>
          </a:prstGeom>
          <a:ln w="0">
            <a:noFill/>
          </a:ln>
        </p:spPr>
      </p:pic>
      <p:sp>
        <p:nvSpPr>
          <p:cNvPr id="46" name="Text Box 12"/>
          <p:cNvSpPr/>
          <p:nvPr/>
        </p:nvSpPr>
        <p:spPr>
          <a:xfrm>
            <a:off x="1524600" y="2362320"/>
            <a:ext cx="356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de is 2 fried eggs back - back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1601640" y="2895480"/>
            <a:ext cx="2860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iral galaxy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emble a pinwheel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n disk bluge in center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autiful at night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Text Box 15"/>
          <p:cNvSpPr/>
          <p:nvPr/>
        </p:nvSpPr>
        <p:spPr>
          <a:xfrm>
            <a:off x="2806560" y="493560"/>
            <a:ext cx="127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ooks Like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703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4"/>
          <p:cNvSpPr/>
          <p:nvPr/>
        </p:nvSpPr>
        <p:spPr>
          <a:xfrm>
            <a:off x="3584880" y="304920"/>
            <a:ext cx="178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ze and Shape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2367360" y="1523880"/>
            <a:ext cx="312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le middle bigger than sun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4"/>
          <p:cNvSpPr/>
          <p:nvPr/>
        </p:nvSpPr>
        <p:spPr>
          <a:xfrm>
            <a:off x="3659760" y="533520"/>
            <a:ext cx="10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de of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2346120" y="1332000"/>
            <a:ext cx="37677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ld together by gravity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 of cloud canes venatici cloud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,000 million stars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e star in milky way is sun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ack hole in middle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4"/>
          <p:cNvSpPr/>
          <p:nvPr/>
        </p:nvSpPr>
        <p:spPr>
          <a:xfrm>
            <a:off x="3720600" y="493560"/>
            <a:ext cx="14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mosphere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4" name="Text Box 5"/>
          <p:cNvSpPr/>
          <p:nvPr/>
        </p:nvSpPr>
        <p:spPr>
          <a:xfrm>
            <a:off x="2808000" y="1407960"/>
            <a:ext cx="4277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move 188 miles closer every second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ve in Milky Way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are not near middle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cccc"/>
            </a:gs>
            <a:gs pos="100000">
              <a:srgbClr val="0066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4"/>
          <p:cNvSpPr/>
          <p:nvPr/>
        </p:nvSpPr>
        <p:spPr>
          <a:xfrm>
            <a:off x="3659040" y="53352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 FACTS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6" name="Text Box 5"/>
          <p:cNvSpPr/>
          <p:nvPr/>
        </p:nvSpPr>
        <p:spPr>
          <a:xfrm>
            <a:off x="1752480" y="1676520"/>
            <a:ext cx="6077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cient times people thought that it looked like spilled milk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n takes 225 million years around the center once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lky way has a twin Andromeda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2T15:56:00Z</dcterms:created>
  <dc:creator>FELDTRYL000</dc:creator>
  <dc:description/>
  <dc:language>en-US</dc:language>
  <cp:lastModifiedBy>FELDTRYL000</cp:lastModifiedBy>
  <dcterms:modified xsi:type="dcterms:W3CDTF">2010-02-04T16:13:40Z</dcterms:modified>
  <cp:revision>7</cp:revision>
  <dc:subject/>
  <dc:title>Milky Way</dc:title>
</cp:coreProperties>
</file>